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3.jpeg" ContentType="image/jpeg"/>
  <Override PartName="/ppt/media/image9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1C73-A3A0-4E26-A1C4-D34E4209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02E2-ABE8-4259-A80E-825324E7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E5D-C311-457A-83ED-0CA3C31A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8EC-0D62-4518-9943-AB0E9113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EA0F-27E7-447C-8852-1C54FD26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D6C2-EE73-47C8-B4C0-53C2C480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73F3-A4DB-44B6-9A52-5E833CFC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CD8-D8B0-47F4-BF57-A0604D6B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A56-CFD7-403B-8732-6EDEADCB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6E1-F979-45A0-9E69-C5E54F0C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E4C3-1AC5-468F-B66F-0E7765FE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DE87-6BC6-4D20-97F9-9427147D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213E-C717-46BC-82F5-7E041F5ED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5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981000"/>
            <a:ext cx="712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JABB ELJÁRÁSOK AZ IZOMTÖMEG ÉS AZ IZOMFUNKCIÓK FEJLESZTÉSÉ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268452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por Péter, Tihanyi József, Borka Pé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6200" y="3619440"/>
            <a:ext cx="61214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mmelweis Egyetem Testnevelési és Sporttudományi K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vábhegyi Gyermekgyógyintéz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92360" y="260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zisztencia-edzés program COPD-sek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2060640"/>
            <a:ext cx="727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z első két héten 2 napon 2x majd 3x12 gyakorlat, 7 izomcsoporttal, 2 perces, nyújtással kitöltött pihenőkkel, 15-18 RM intenzitás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784680"/>
            <a:ext cx="72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3. – 7. héten 2x -4x 10 gyakorlat (10 RM), heti 3x120 perc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5003640"/>
            <a:ext cx="72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8. – 12.  héten ehhez excentrikus gyakorlatok is társulna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148428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right 2003, Boch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800"/>
                            </p:stCondLst>
                            <p:childTnLst>
                              <p:par>
                                <p:cTn id="3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92360" y="26028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z excentrikus izomedz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1268280"/>
            <a:ext cx="727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 max. izometriásnál nagyobb (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zupramaximális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) izomfeszülés – nagyobb stressz, de nagyobb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zésinger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2637000"/>
            <a:ext cx="727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ugyanakkora koncentrikus mechanikai teljesítményhez képest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5-7x kisebb oxigén igény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lasztikus „rugók” a kötő- és izomszövet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465300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tós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zomláz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z első 2-3 edzés utá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8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92360" y="260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z excentrikus edzés koronária betege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15318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einer etc. Eur. J. Appl. Physiol. 2004. 91, 572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2776680"/>
            <a:ext cx="7274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ti 3 x fél óra, azonos O</a:t>
            </a:r>
            <a:r>
              <a:rPr b="1" lang="hu-HU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igényű (VO</a:t>
            </a:r>
            <a:r>
              <a:rPr b="1" lang="hu-HU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60 %-a: 97, illetve 338 Wattal) koncentrikus és excentrikus kerékpározás. Izomtömeg +  3 %, erő csak az excentrikusan edzőkön nőtt, 5-11 %-k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800"/>
                            </p:stCondLst>
                            <p:childTnLst>
                              <p:par>
                                <p:cTn id="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92360" y="260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z excentrikus edzés COPD-b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15318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ooyackers etc. Int. J. Rehab. Res., 2003. 26, 47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2776680"/>
            <a:ext cx="727416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úlyos COPD-sek (FEVI 38-45 %, Watt max-nál 90 % alatt az SO</a:t>
            </a:r>
            <a:r>
              <a:rPr b="1" lang="hu-HU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az excentrikus kerékpározást a Watt</a:t>
            </a:r>
            <a:r>
              <a:rPr b="1" lang="hu-HU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max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60-val tudták végezni, Borg 3 és 90 % feletti SO</a:t>
            </a:r>
            <a:r>
              <a:rPr b="1" lang="hu-HU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vel, O</a:t>
            </a:r>
            <a:r>
              <a:rPr b="1" lang="hu-HU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ótlás nélkül. A kardiocirc. fittség és a gázcsere mutatók oly mértékben fejlődtek, mint a koncentrikus biciklizés 10 hete ala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800"/>
                            </p:stCondLst>
                            <p:childTnLst>
                              <p:par>
                                <p:cTn id="4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27280" y="26028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bráci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126828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y végtag vagy izomcsoport vibráció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16000" y="2319480"/>
            <a:ext cx="2879640" cy="2217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04840" y="4508640"/>
            <a:ext cx="2890800" cy="2109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930920" y="126828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ész test vib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076720" y="1916280"/>
            <a:ext cx="1689120" cy="238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659640" y="2924280"/>
            <a:ext cx="220968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0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0"/>
                            </p:stCondLst>
                            <p:childTnLst>
                              <p:par>
                                <p:cTn id="5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4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400"/>
                            </p:stCondLst>
                            <p:childTnLst>
                              <p:par>
                                <p:cTn id="5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400"/>
                            </p:stCondLst>
                            <p:childTnLst>
                              <p:par>
                                <p:cTn id="522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400"/>
                            </p:stCondLst>
                            <p:childTnLst>
                              <p:par>
                                <p:cTn id="5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12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3120"/>
                            </p:stCondLst>
                            <p:childTnLst>
                              <p:par>
                                <p:cTn id="538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32000" y="333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ódsze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1413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plitúd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29005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rekv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36925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őtart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6920" y="3716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mét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6720" y="1700280"/>
            <a:ext cx="1368360" cy="430200"/>
          </a:xfrm>
          <a:custGeom>
            <a:avLst/>
            <a:gdLst/>
            <a:ahLst/>
            <a:rect l="l" t="t" r="r" b="b"/>
            <a:pathLst>
              <a:path w="2132" h="1057">
                <a:moveTo>
                  <a:pt x="0" y="506"/>
                </a:moveTo>
                <a:cubicBezTo>
                  <a:pt x="26" y="381"/>
                  <a:pt x="53" y="256"/>
                  <a:pt x="91" y="188"/>
                </a:cubicBezTo>
                <a:cubicBezTo>
                  <a:pt x="129" y="120"/>
                  <a:pt x="189" y="90"/>
                  <a:pt x="227" y="98"/>
                </a:cubicBezTo>
                <a:cubicBezTo>
                  <a:pt x="265" y="106"/>
                  <a:pt x="288" y="166"/>
                  <a:pt x="318" y="234"/>
                </a:cubicBezTo>
                <a:cubicBezTo>
                  <a:pt x="348" y="302"/>
                  <a:pt x="363" y="400"/>
                  <a:pt x="408" y="506"/>
                </a:cubicBezTo>
                <a:cubicBezTo>
                  <a:pt x="453" y="612"/>
                  <a:pt x="545" y="794"/>
                  <a:pt x="590" y="869"/>
                </a:cubicBezTo>
                <a:cubicBezTo>
                  <a:pt x="635" y="944"/>
                  <a:pt x="635" y="1057"/>
                  <a:pt x="680" y="959"/>
                </a:cubicBezTo>
                <a:cubicBezTo>
                  <a:pt x="725" y="861"/>
                  <a:pt x="801" y="423"/>
                  <a:pt x="862" y="279"/>
                </a:cubicBezTo>
                <a:cubicBezTo>
                  <a:pt x="923" y="135"/>
                  <a:pt x="960" y="0"/>
                  <a:pt x="1043" y="98"/>
                </a:cubicBezTo>
                <a:cubicBezTo>
                  <a:pt x="1126" y="196"/>
                  <a:pt x="1278" y="725"/>
                  <a:pt x="1361" y="869"/>
                </a:cubicBezTo>
                <a:cubicBezTo>
                  <a:pt x="1444" y="1013"/>
                  <a:pt x="1474" y="1050"/>
                  <a:pt x="1542" y="959"/>
                </a:cubicBezTo>
                <a:cubicBezTo>
                  <a:pt x="1610" y="868"/>
                  <a:pt x="1708" y="468"/>
                  <a:pt x="1769" y="324"/>
                </a:cubicBezTo>
                <a:cubicBezTo>
                  <a:pt x="1830" y="180"/>
                  <a:pt x="1845" y="45"/>
                  <a:pt x="1905" y="98"/>
                </a:cubicBezTo>
                <a:cubicBezTo>
                  <a:pt x="1965" y="151"/>
                  <a:pt x="2094" y="551"/>
                  <a:pt x="2132" y="64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1341360"/>
            <a:ext cx="1368360" cy="1152720"/>
          </a:xfrm>
          <a:custGeom>
            <a:avLst/>
            <a:gdLst/>
            <a:ahLst/>
            <a:rect l="l" t="t" r="r" b="b"/>
            <a:pathLst>
              <a:path w="2132" h="1057">
                <a:moveTo>
                  <a:pt x="0" y="506"/>
                </a:moveTo>
                <a:cubicBezTo>
                  <a:pt x="26" y="381"/>
                  <a:pt x="53" y="256"/>
                  <a:pt x="91" y="188"/>
                </a:cubicBezTo>
                <a:cubicBezTo>
                  <a:pt x="129" y="120"/>
                  <a:pt x="189" y="90"/>
                  <a:pt x="227" y="98"/>
                </a:cubicBezTo>
                <a:cubicBezTo>
                  <a:pt x="265" y="106"/>
                  <a:pt x="288" y="166"/>
                  <a:pt x="318" y="234"/>
                </a:cubicBezTo>
                <a:cubicBezTo>
                  <a:pt x="348" y="302"/>
                  <a:pt x="363" y="400"/>
                  <a:pt x="408" y="506"/>
                </a:cubicBezTo>
                <a:cubicBezTo>
                  <a:pt x="453" y="612"/>
                  <a:pt x="545" y="794"/>
                  <a:pt x="590" y="869"/>
                </a:cubicBezTo>
                <a:cubicBezTo>
                  <a:pt x="635" y="944"/>
                  <a:pt x="635" y="1057"/>
                  <a:pt x="680" y="959"/>
                </a:cubicBezTo>
                <a:cubicBezTo>
                  <a:pt x="725" y="861"/>
                  <a:pt x="801" y="423"/>
                  <a:pt x="862" y="279"/>
                </a:cubicBezTo>
                <a:cubicBezTo>
                  <a:pt x="923" y="135"/>
                  <a:pt x="960" y="0"/>
                  <a:pt x="1043" y="98"/>
                </a:cubicBezTo>
                <a:cubicBezTo>
                  <a:pt x="1126" y="196"/>
                  <a:pt x="1278" y="725"/>
                  <a:pt x="1361" y="869"/>
                </a:cubicBezTo>
                <a:cubicBezTo>
                  <a:pt x="1444" y="1013"/>
                  <a:pt x="1474" y="1050"/>
                  <a:pt x="1542" y="959"/>
                </a:cubicBezTo>
                <a:cubicBezTo>
                  <a:pt x="1610" y="868"/>
                  <a:pt x="1708" y="468"/>
                  <a:pt x="1769" y="324"/>
                </a:cubicBezTo>
                <a:cubicBezTo>
                  <a:pt x="1830" y="180"/>
                  <a:pt x="1845" y="45"/>
                  <a:pt x="1905" y="98"/>
                </a:cubicBezTo>
                <a:cubicBezTo>
                  <a:pt x="1965" y="151"/>
                  <a:pt x="2094" y="551"/>
                  <a:pt x="2132" y="64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1052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93080" y="10461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076720" y="2674800"/>
            <a:ext cx="1440000" cy="828720"/>
            <a:chOff x="5076720" y="2674800"/>
            <a:chExt cx="1440000" cy="828720"/>
          </a:xfrm>
        </p:grpSpPr>
        <p:sp>
          <p:nvSpPr>
            <p:cNvPr id="116" name=""/>
            <p:cNvSpPr/>
            <p:nvPr/>
          </p:nvSpPr>
          <p:spPr>
            <a:xfrm>
              <a:off x="5076720" y="3073320"/>
              <a:ext cx="1368360" cy="430200"/>
            </a:xfrm>
            <a:custGeom>
              <a:avLst/>
              <a:gdLst/>
              <a:ahLst/>
              <a:rect l="l" t="t" r="r" b="b"/>
              <a:pathLst>
                <a:path w="2132" h="1057">
                  <a:moveTo>
                    <a:pt x="0" y="506"/>
                  </a:moveTo>
                  <a:cubicBezTo>
                    <a:pt x="26" y="381"/>
                    <a:pt x="53" y="256"/>
                    <a:pt x="91" y="188"/>
                  </a:cubicBezTo>
                  <a:cubicBezTo>
                    <a:pt x="129" y="120"/>
                    <a:pt x="189" y="90"/>
                    <a:pt x="227" y="98"/>
                  </a:cubicBezTo>
                  <a:cubicBezTo>
                    <a:pt x="265" y="106"/>
                    <a:pt x="288" y="166"/>
                    <a:pt x="318" y="234"/>
                  </a:cubicBezTo>
                  <a:cubicBezTo>
                    <a:pt x="348" y="302"/>
                    <a:pt x="363" y="400"/>
                    <a:pt x="408" y="506"/>
                  </a:cubicBezTo>
                  <a:cubicBezTo>
                    <a:pt x="453" y="612"/>
                    <a:pt x="545" y="794"/>
                    <a:pt x="590" y="869"/>
                  </a:cubicBezTo>
                  <a:cubicBezTo>
                    <a:pt x="635" y="944"/>
                    <a:pt x="635" y="1057"/>
                    <a:pt x="680" y="959"/>
                  </a:cubicBezTo>
                  <a:cubicBezTo>
                    <a:pt x="725" y="861"/>
                    <a:pt x="801" y="423"/>
                    <a:pt x="862" y="279"/>
                  </a:cubicBezTo>
                  <a:cubicBezTo>
                    <a:pt x="923" y="135"/>
                    <a:pt x="960" y="0"/>
                    <a:pt x="1043" y="98"/>
                  </a:cubicBezTo>
                  <a:cubicBezTo>
                    <a:pt x="1126" y="196"/>
                    <a:pt x="1278" y="725"/>
                    <a:pt x="1361" y="869"/>
                  </a:cubicBezTo>
                  <a:cubicBezTo>
                    <a:pt x="1444" y="1013"/>
                    <a:pt x="1474" y="1050"/>
                    <a:pt x="1542" y="959"/>
                  </a:cubicBezTo>
                  <a:cubicBezTo>
                    <a:pt x="1610" y="868"/>
                    <a:pt x="1708" y="468"/>
                    <a:pt x="1769" y="324"/>
                  </a:cubicBezTo>
                  <a:cubicBezTo>
                    <a:pt x="1830" y="180"/>
                    <a:pt x="1845" y="45"/>
                    <a:pt x="1905" y="98"/>
                  </a:cubicBezTo>
                  <a:cubicBezTo>
                    <a:pt x="1965" y="151"/>
                    <a:pt x="2094" y="551"/>
                    <a:pt x="2132" y="64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08720" y="2674800"/>
              <a:ext cx="10080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20 H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7164360" y="2674800"/>
            <a:ext cx="1728720" cy="986400"/>
            <a:chOff x="7164360" y="2674800"/>
            <a:chExt cx="1728720" cy="986400"/>
          </a:xfrm>
        </p:grpSpPr>
        <p:grpSp>
          <p:nvGrpSpPr>
            <p:cNvPr id="119" name=""/>
            <p:cNvGrpSpPr/>
            <p:nvPr/>
          </p:nvGrpSpPr>
          <p:grpSpPr>
            <a:xfrm>
              <a:off x="7164360" y="3144960"/>
              <a:ext cx="1728720" cy="516240"/>
              <a:chOff x="7164360" y="3144960"/>
              <a:chExt cx="1728720" cy="516240"/>
            </a:xfrm>
          </p:grpSpPr>
          <p:sp>
            <p:nvSpPr>
              <p:cNvPr id="120" name=""/>
              <p:cNvSpPr/>
              <p:nvPr/>
            </p:nvSpPr>
            <p:spPr>
              <a:xfrm>
                <a:off x="7164360" y="3144960"/>
                <a:ext cx="576360" cy="430200"/>
              </a:xfrm>
              <a:custGeom>
                <a:avLst/>
                <a:gdLst/>
                <a:ahLst/>
                <a:rect l="l" t="t" r="r" b="b"/>
                <a:pathLst>
                  <a:path w="2132" h="1057">
                    <a:moveTo>
                      <a:pt x="0" y="506"/>
                    </a:moveTo>
                    <a:cubicBezTo>
                      <a:pt x="26" y="381"/>
                      <a:pt x="53" y="256"/>
                      <a:pt x="91" y="188"/>
                    </a:cubicBezTo>
                    <a:cubicBezTo>
                      <a:pt x="129" y="120"/>
                      <a:pt x="189" y="90"/>
                      <a:pt x="227" y="98"/>
                    </a:cubicBezTo>
                    <a:cubicBezTo>
                      <a:pt x="265" y="106"/>
                      <a:pt x="288" y="166"/>
                      <a:pt x="318" y="234"/>
                    </a:cubicBezTo>
                    <a:cubicBezTo>
                      <a:pt x="348" y="302"/>
                      <a:pt x="363" y="400"/>
                      <a:pt x="408" y="506"/>
                    </a:cubicBezTo>
                    <a:cubicBezTo>
                      <a:pt x="453" y="612"/>
                      <a:pt x="545" y="794"/>
                      <a:pt x="590" y="869"/>
                    </a:cubicBezTo>
                    <a:cubicBezTo>
                      <a:pt x="635" y="944"/>
                      <a:pt x="635" y="1057"/>
                      <a:pt x="680" y="959"/>
                    </a:cubicBezTo>
                    <a:cubicBezTo>
                      <a:pt x="725" y="861"/>
                      <a:pt x="801" y="423"/>
                      <a:pt x="862" y="279"/>
                    </a:cubicBezTo>
                    <a:cubicBezTo>
                      <a:pt x="923" y="135"/>
                      <a:pt x="960" y="0"/>
                      <a:pt x="1043" y="98"/>
                    </a:cubicBezTo>
                    <a:cubicBezTo>
                      <a:pt x="1126" y="196"/>
                      <a:pt x="1278" y="725"/>
                      <a:pt x="1361" y="869"/>
                    </a:cubicBezTo>
                    <a:cubicBezTo>
                      <a:pt x="1444" y="1013"/>
                      <a:pt x="1474" y="1050"/>
                      <a:pt x="1542" y="959"/>
                    </a:cubicBezTo>
                    <a:cubicBezTo>
                      <a:pt x="1610" y="868"/>
                      <a:pt x="1708" y="468"/>
                      <a:pt x="1769" y="324"/>
                    </a:cubicBezTo>
                    <a:cubicBezTo>
                      <a:pt x="1830" y="180"/>
                      <a:pt x="1845" y="45"/>
                      <a:pt x="1905" y="98"/>
                    </a:cubicBezTo>
                    <a:cubicBezTo>
                      <a:pt x="1965" y="151"/>
                      <a:pt x="2094" y="551"/>
                      <a:pt x="2132" y="64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1002200">
                <a:off x="7740360" y="3214080"/>
                <a:ext cx="576360" cy="430200"/>
              </a:xfrm>
              <a:custGeom>
                <a:avLst/>
                <a:gdLst/>
                <a:ahLst/>
                <a:rect l="l" t="t" r="r" b="b"/>
                <a:pathLst>
                  <a:path w="2132" h="1057">
                    <a:moveTo>
                      <a:pt x="0" y="506"/>
                    </a:moveTo>
                    <a:cubicBezTo>
                      <a:pt x="26" y="381"/>
                      <a:pt x="53" y="256"/>
                      <a:pt x="91" y="188"/>
                    </a:cubicBezTo>
                    <a:cubicBezTo>
                      <a:pt x="129" y="120"/>
                      <a:pt x="189" y="90"/>
                      <a:pt x="227" y="98"/>
                    </a:cubicBezTo>
                    <a:cubicBezTo>
                      <a:pt x="265" y="106"/>
                      <a:pt x="288" y="166"/>
                      <a:pt x="318" y="234"/>
                    </a:cubicBezTo>
                    <a:cubicBezTo>
                      <a:pt x="348" y="302"/>
                      <a:pt x="363" y="400"/>
                      <a:pt x="408" y="506"/>
                    </a:cubicBezTo>
                    <a:cubicBezTo>
                      <a:pt x="453" y="612"/>
                      <a:pt x="545" y="794"/>
                      <a:pt x="590" y="869"/>
                    </a:cubicBezTo>
                    <a:cubicBezTo>
                      <a:pt x="635" y="944"/>
                      <a:pt x="635" y="1057"/>
                      <a:pt x="680" y="959"/>
                    </a:cubicBezTo>
                    <a:cubicBezTo>
                      <a:pt x="725" y="861"/>
                      <a:pt x="801" y="423"/>
                      <a:pt x="862" y="279"/>
                    </a:cubicBezTo>
                    <a:cubicBezTo>
                      <a:pt x="923" y="135"/>
                      <a:pt x="960" y="0"/>
                      <a:pt x="1043" y="98"/>
                    </a:cubicBezTo>
                    <a:cubicBezTo>
                      <a:pt x="1126" y="196"/>
                      <a:pt x="1278" y="725"/>
                      <a:pt x="1361" y="869"/>
                    </a:cubicBezTo>
                    <a:cubicBezTo>
                      <a:pt x="1444" y="1013"/>
                      <a:pt x="1474" y="1050"/>
                      <a:pt x="1542" y="959"/>
                    </a:cubicBezTo>
                    <a:cubicBezTo>
                      <a:pt x="1610" y="868"/>
                      <a:pt x="1708" y="468"/>
                      <a:pt x="1769" y="324"/>
                    </a:cubicBezTo>
                    <a:cubicBezTo>
                      <a:pt x="1830" y="180"/>
                      <a:pt x="1845" y="45"/>
                      <a:pt x="1905" y="98"/>
                    </a:cubicBezTo>
                    <a:cubicBezTo>
                      <a:pt x="1965" y="151"/>
                      <a:pt x="2094" y="551"/>
                      <a:pt x="2132" y="64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317080" y="3214800"/>
                <a:ext cx="576000" cy="430200"/>
              </a:xfrm>
              <a:custGeom>
                <a:avLst/>
                <a:gdLst/>
                <a:ahLst/>
                <a:rect l="l" t="t" r="r" b="b"/>
                <a:pathLst>
                  <a:path w="2132" h="1057">
                    <a:moveTo>
                      <a:pt x="0" y="506"/>
                    </a:moveTo>
                    <a:cubicBezTo>
                      <a:pt x="26" y="381"/>
                      <a:pt x="53" y="256"/>
                      <a:pt x="91" y="188"/>
                    </a:cubicBezTo>
                    <a:cubicBezTo>
                      <a:pt x="129" y="120"/>
                      <a:pt x="189" y="90"/>
                      <a:pt x="227" y="98"/>
                    </a:cubicBezTo>
                    <a:cubicBezTo>
                      <a:pt x="265" y="106"/>
                      <a:pt x="288" y="166"/>
                      <a:pt x="318" y="234"/>
                    </a:cubicBezTo>
                    <a:cubicBezTo>
                      <a:pt x="348" y="302"/>
                      <a:pt x="363" y="400"/>
                      <a:pt x="408" y="506"/>
                    </a:cubicBezTo>
                    <a:cubicBezTo>
                      <a:pt x="453" y="612"/>
                      <a:pt x="545" y="794"/>
                      <a:pt x="590" y="869"/>
                    </a:cubicBezTo>
                    <a:cubicBezTo>
                      <a:pt x="635" y="944"/>
                      <a:pt x="635" y="1057"/>
                      <a:pt x="680" y="959"/>
                    </a:cubicBezTo>
                    <a:cubicBezTo>
                      <a:pt x="725" y="861"/>
                      <a:pt x="801" y="423"/>
                      <a:pt x="862" y="279"/>
                    </a:cubicBezTo>
                    <a:cubicBezTo>
                      <a:pt x="923" y="135"/>
                      <a:pt x="960" y="0"/>
                      <a:pt x="1043" y="98"/>
                    </a:cubicBezTo>
                    <a:cubicBezTo>
                      <a:pt x="1126" y="196"/>
                      <a:pt x="1278" y="725"/>
                      <a:pt x="1361" y="869"/>
                    </a:cubicBezTo>
                    <a:cubicBezTo>
                      <a:pt x="1444" y="1013"/>
                      <a:pt x="1474" y="1050"/>
                      <a:pt x="1542" y="959"/>
                    </a:cubicBezTo>
                    <a:cubicBezTo>
                      <a:pt x="1610" y="868"/>
                      <a:pt x="1708" y="468"/>
                      <a:pt x="1769" y="324"/>
                    </a:cubicBezTo>
                    <a:cubicBezTo>
                      <a:pt x="1830" y="180"/>
                      <a:pt x="1845" y="45"/>
                      <a:pt x="1905" y="98"/>
                    </a:cubicBezTo>
                    <a:cubicBezTo>
                      <a:pt x="1965" y="151"/>
                      <a:pt x="2094" y="551"/>
                      <a:pt x="2132" y="64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7524720" y="2674800"/>
              <a:ext cx="10080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40 H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601640" y="4680000"/>
            <a:ext cx="38124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7440" y="4680000"/>
            <a:ext cx="38124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3240" y="4680000"/>
            <a:ext cx="38124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9040" y="4680000"/>
            <a:ext cx="38124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44840" y="4680000"/>
            <a:ext cx="38124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030640" y="4908600"/>
            <a:ext cx="0" cy="914400"/>
          </a:xfrm>
          <a:prstGeom prst="line">
            <a:avLst/>
          </a:prstGeom>
          <a:ln cap="sq" w="76320">
            <a:solidFill>
              <a:srgbClr val="99cc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4840" y="57340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e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560" y="4680000"/>
            <a:ext cx="38088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21360" y="4680000"/>
            <a:ext cx="38088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7160" y="4680000"/>
            <a:ext cx="38088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92960" y="4680000"/>
            <a:ext cx="38088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78760" y="4680000"/>
            <a:ext cx="38088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0240" y="495792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60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371628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hen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09840" y="424512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9900"/>
                </a:solidFill>
                <a:latin typeface="Times New Roman"/>
              </a:rPr>
              <a:t>30-6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0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660"/>
                            </p:stCondLst>
                            <p:childTnLst>
                              <p:par>
                                <p:cTn id="5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660"/>
                            </p:stCondLst>
                            <p:childTnLst>
                              <p:par>
                                <p:cTn id="5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660"/>
                            </p:stCondLst>
                            <p:childTnLst>
                              <p:par>
                                <p:cTn id="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860"/>
                            </p:stCondLst>
                            <p:childTnLst>
                              <p:par>
                                <p:cTn id="578" nodeType="afterEffect" fill="hold" presetClass="entr" presetID="26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966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1660"/>
                            </p:stCondLst>
                            <p:childTnLst>
                              <p:par>
                                <p:cTn id="5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6000"/>
                            </p:stCondLst>
                            <p:childTnLst>
                              <p:par>
                                <p:cTn id="6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100"/>
                            </p:stCondLst>
                            <p:childTnLst>
                              <p:par>
                                <p:cTn id="6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600"/>
                            </p:stCondLst>
                            <p:childTnLst>
                              <p:par>
                                <p:cTn id="6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100"/>
                            </p:stCondLst>
                            <p:childTnLst>
                              <p:par>
                                <p:cTn id="6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60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900"/>
                            </p:stCondLst>
                            <p:childTnLst>
                              <p:par>
                                <p:cTn id="6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400"/>
                            </p:stCondLst>
                            <p:childTnLst>
                              <p:par>
                                <p:cTn id="6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900"/>
                            </p:stCondLst>
                            <p:childTnLst>
                              <p:par>
                                <p:cTn id="6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400"/>
                            </p:stCondLst>
                            <p:childTnLst>
                              <p:par>
                                <p:cTn id="6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900"/>
                            </p:stCondLst>
                            <p:childTnLst>
                              <p:par>
                                <p:cTn id="6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400"/>
                            </p:stCondLst>
                            <p:childTnLst>
                              <p:par>
                                <p:cTn id="6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003640" y="3860640"/>
            <a:ext cx="2665440" cy="1785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11280" y="984240"/>
            <a:ext cx="1622160" cy="2444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27280" y="1039680"/>
            <a:ext cx="1689120" cy="2389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859280" y="981000"/>
            <a:ext cx="1722600" cy="244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332000" y="3333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STHELYZE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6948360" y="981000"/>
            <a:ext cx="1625760" cy="244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187280" y="3933720"/>
            <a:ext cx="2819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5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7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9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5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7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9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4000"/>
                            </p:stCondLst>
                            <p:childTnLst>
                              <p:par>
                                <p:cTn id="70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5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7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6000"/>
                            </p:stCondLst>
                            <p:childTnLst>
                              <p:par>
                                <p:cTn id="7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5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7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5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7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9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42920" y="39704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könyökhajlítók maximális izometriás ereje 49,8 %-al növekedett három hetes vibráció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4Hz – 3mm)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tására (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surin et al. 1994)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54151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könyökhajlítók átlag és csúcsteljesítménye szintén növekedett (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surin et al. (1999)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1680" y="1125360"/>
            <a:ext cx="79423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Arial"/>
              </a:rPr>
              <a:t>A kimerűlésig tartó vibráció alatt, lassú térhajlítással kombinálva) az oxigén felhasználás 50 %-os volt a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V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Arial"/>
              </a:rPr>
              <a:t>2max</a:t>
            </a:r>
            <a:r>
              <a:rPr b="1" lang="hu-HU" sz="2400" spc="-1" strike="noStrike">
                <a:solidFill>
                  <a:srgbClr val="ffff00"/>
                </a:solidFill>
                <a:latin typeface="Arial"/>
              </a:rPr>
              <a:t> –hoz viszonyítva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ttwegger et al. 2000)</a:t>
            </a:r>
            <a:r>
              <a:rPr b="1" lang="hu-HU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781360"/>
            <a:ext cx="7664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Kerschan-Schindl et al. (2001</a:t>
            </a:r>
            <a:r>
              <a:rPr b="1" lang="hu-HU" sz="2400" spc="-1" strike="noStrike">
                <a:solidFill>
                  <a:srgbClr val="ffff00"/>
                </a:solidFill>
                <a:latin typeface="Arial"/>
              </a:rPr>
              <a:t>) kimutatta, hogy a vibráció alatt megnövekedett a véráramlás sebessége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5 </a:t>
            </a:r>
            <a:r>
              <a:rPr b="1" lang="hu-HU" sz="24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13 cm.s-</a:t>
            </a:r>
            <a:r>
              <a:rPr b="1" lang="en-GB" sz="24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hu-HU" sz="2400" spc="-1" strike="noStrike">
                <a:solidFill>
                  <a:srgbClr val="ffff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27280" y="26028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tás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4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6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8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4500"/>
                            </p:stCondLst>
                            <p:childTnLst>
                              <p:par>
                                <p:cTn id="785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692360" y="981000"/>
            <a:ext cx="611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ÖSZÖNÖM MEGTISZTELŐ FIGYELMÜKET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780000" y="620640"/>
            <a:ext cx="12236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981000"/>
            <a:ext cx="71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ll-e az erőt/izomtömeget fejleszteni a szív-, vagy tüdőbeteg emberb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268452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izom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ömege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élettani keresztmetszete)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rányos az erővel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138560"/>
            <a:ext cx="67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z izom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 cukor (és zsír) anyagcsere szerve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nzulin rezisztenia, obesek és diab2 betegek izmainak lipidanyagcsere rendellenesége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80360" y="2924280"/>
            <a:ext cx="14097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92360" y="47628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 kérdés nem az, hogy kell-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981000"/>
            <a:ext cx="27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92360" y="97776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n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2360" y="148104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hogyan 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227664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„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Hagyományos”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hab. edzés az aerob funkciók, mozgékonyság ... javítására: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folyamato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yaloglás, kerékpározás, s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4138560"/>
            <a:ext cx="67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nek módosítása az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nterval tréning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erifériás okú alacsony MET, köpetürítés szükségessége, oxigén kiegészítés, változatosság, jobb eltűrhetőség, nagyobb intenzitás rövid időr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77080" y="2247840"/>
            <a:ext cx="2016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000"/>
                            </p:stCondLst>
                            <p:childTnLst>
                              <p:par>
                                <p:cTn id="8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87280" y="404640"/>
            <a:ext cx="676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z erő növelésének módsze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Hatásspecifitás el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198900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zometriás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yakorlatok (CP betegeken ali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3013200"/>
            <a:ext cx="2952720" cy="2079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348000" y="3036960"/>
            <a:ext cx="2592360" cy="2074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084720" y="3068640"/>
            <a:ext cx="25196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396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5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8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68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68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868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7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87280" y="404640"/>
            <a:ext cx="676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z erő növelésének módsze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Hatásspecifitás el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133720"/>
            <a:ext cx="72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inamikus, koncentriku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különböző sebességgel rövidül az aktív iz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3429000"/>
            <a:ext cx="3168720" cy="2233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280836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264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3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87280" y="404640"/>
            <a:ext cx="676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z erő növelésének módsze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Hatásspecifitás el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1989000"/>
            <a:ext cx="785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inamikus, excentriku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különböző sebességgel megnyúlik az aktív iz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131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2881440" cy="2130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64000" y="580536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zokinetikus (nyújtá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227640" y="3429000"/>
            <a:ext cx="2664000" cy="2131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45080" y="5805360"/>
            <a:ext cx="23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zotóniás (nyújtás-rövidül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24102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4102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4102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644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0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5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87280" y="404640"/>
            <a:ext cx="676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z erő növelésének módsze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Hatásspecifitás el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198900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Vibráció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különböző frekvenciával ingerelt iz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95640" y="2779560"/>
            <a:ext cx="1587240" cy="3673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300560" y="2852640"/>
            <a:ext cx="220968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92360" y="62064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zometrik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1844640"/>
            <a:ext cx="756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Maximális erő (1 Repetition Maximum: 1RM) kifejthető, préselés pulzus és vérnyomás válasza, az adott izomhosszon vastagít – 2 MET alatti betegek ülve-fekve gyakorolhatják, 7 MET felettiek korlátok nélkü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69840" y="4422600"/>
            <a:ext cx="72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ább 60 %-os (1RM-hez viszonyítva) izomfeszülés hoz erő és keresztmetszeti hatá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692360" y="62064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zisztencia edz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1484280"/>
            <a:ext cx="72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 „mindenkinek ajánlott” program hetente kétszer javall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262260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agy izomcsoportokkal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combfeszítő és hajlító, karfeszítő és hajlító, has, törzs – derék- hátra-oldalt, hátfeszítő, delta, pectoral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4067280"/>
            <a:ext cx="727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-4x8-12 ismétlés (8-12 RM intenzitással)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köztük 2 perc szünet stretchinggel, az egyes izomcsoportokat váltakozóan edz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536256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aját test, társ, súlyzók, gépek ellené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6:01:53Z</dcterms:created>
  <dc:creator>Tihanyi József</dc:creator>
  <dc:description/>
  <dc:language>en-US</dc:language>
  <cp:lastModifiedBy>Tihanyi József</cp:lastModifiedBy>
  <dcterms:modified xsi:type="dcterms:W3CDTF">2004-10-14T09:10:13Z</dcterms:modified>
  <cp:revision>6</cp:revision>
  <dc:subject/>
  <dc:title>1. dia</dc:title>
</cp:coreProperties>
</file>